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9494-4581-4466-A065-06262C787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88A8-218A-43F9-B880-C6C0E9CF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D01D-4971-4645-8E8B-F642EF3CF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E674-78A7-4D51-B6DC-5B514F91E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8B6D-3E51-4951-86AD-80EAD9AD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5D8C-1CCF-4B69-8A4F-A15277B1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DE1D-5D04-433F-BD7F-E5691BBD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01F2-6699-40AA-B76E-804CF3BD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C359-19FD-4E0B-B885-6C2FC32A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C05B-B153-4058-A887-8F8F536B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11B4-22EA-461C-8218-49210789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DD5C-6820-4B01-AC6B-51380D95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9D09-5A8D-4B48-A205-1148FC69B1E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</a:rPr>
              <a:t>Publicita v projekt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spolufinancovaných 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ESF/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7931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Označení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školících místností a certifikátů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ovinnými log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NO: 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kurz pořádaný konkrétně pro příjem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E: 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kurz pro veřejnost, kterého se příjemce pouze účastní.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Vlaječky ČR a EU není třeba použív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ro označení místnosti není třeba tisknout plakáty či bannery, stačí dostatečně velká a viditelná cedule (čtvrtka) s řadou lo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Shrnu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2 manuá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Manuál pro publicitu OP LZ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Manuál vizuální identity OP LZ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3 základní povinnosti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(závazný balíč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ovinná lo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označení školící místnosti a vybav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rezentace na 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droje informací a konta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Programové období 2007-13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OP LZZ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Publi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manuály, šablony, loga, prezen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esf@mpsv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Doporučujeme odebírat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ovinky e-mailem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, kde se dozvíte o aktuálních výzvách, seminářích, realizovaných projektech, zadávacích řízeních a podob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Vkládání informací na we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Registrace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na stránkách www.esfcr.c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Záložka Realizované projekty 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Vložit projekt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, kde naleznete návod i on-line formulá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Záložka Zadávací řízení 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Vložit zadávací řízení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, kde naleznete návod i on-line formulá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Záložka O webu ESFCR – všechny návo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Děkuji Vám za pozornos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Odbor řízení pomoci z E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Ministerstvo práce a sociálních věcí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esf@mpsv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ublicita v projek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povinná 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součást všech projektů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spolufinancovaných z fondů E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je předmětem k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Nařízení Komise č. 1828/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kdo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dává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ení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informování příjemců i široké veřejnosti, že projekt je spolufinancován z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kdo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dostává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ení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uvedení příjemců na veřejně přístupném sezn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ublicita v projek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Manuál pro publicitu OP LZZ  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stanovuje základní pravidla týkající se publicity v 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Manuál vizuální identity OP LZZ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ur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uje zásady správného pou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ívání povinných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anuál pro publici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Závazný balíček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k provádění propagačních a informačních aktiv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povinné minimum publicity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d3673"/>
                </a:solidFill>
                <a:latin typeface="Arial"/>
                <a:ea typeface="Arial"/>
              </a:rPr>
              <a:t>~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3200" spc="-1" strike="noStrike" u="sng">
                <a:solidFill>
                  <a:srgbClr val="0d3673"/>
                </a:solidFill>
                <a:uFillTx/>
                <a:latin typeface="Arial"/>
              </a:rPr>
              <a:t>lo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označení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0d3673"/>
                </a:solidFill>
                <a:uFillTx/>
                <a:latin typeface="Arial"/>
              </a:rPr>
              <a:t>školící místnosti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(+ vybave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vložení </a:t>
            </a:r>
            <a:r>
              <a:rPr b="1" lang="cs-CZ" sz="3200" spc="-1" strike="noStrike" u="sng">
                <a:solidFill>
                  <a:srgbClr val="0d3673"/>
                </a:solidFill>
                <a:uFillTx/>
                <a:latin typeface="Arial"/>
              </a:rPr>
              <a:t>prezentace projektu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na 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anuál pro publici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ovinné minimum public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d3673"/>
                </a:solidFill>
                <a:uFillTx/>
                <a:latin typeface="Arial"/>
              </a:rPr>
              <a:t>a)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 logo fondu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b)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ázev „Evropský sociální fond v ČR“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d3673"/>
                </a:solidFill>
                <a:uFillTx/>
                <a:latin typeface="Arial"/>
              </a:rPr>
              <a:t>c)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logo EU včetně náz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d3673"/>
                </a:solidFill>
                <a:uFillTx/>
                <a:latin typeface="Arial"/>
              </a:rPr>
              <a:t>d)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logo operačního programu včetně náz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e)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motto „Podporujeme vaši budoucnost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f)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odkaz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Kompletní řady i samostatná loga jsou ke stažení na webu (formát JPG, A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anuál vizuální ident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69992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velikost, řazení, rozestupy povinných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barev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typy pís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velké množství příkladů</a:t>
            </a:r>
            <a:r>
              <a:rPr b="0" lang="cs-CZ" sz="36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Lze použít i logo příjemce, případně logo projek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ovinné minimum publicity × publicitní ak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minimum publicity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= povinná loga, uvádí všichni příjemci; propagace programu, fondu, EU (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kdo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eníze dává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publicitní aktivity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= aktivity specifikované v projektové žádosti; zejména propagace projektu (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a co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se peníze dávají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Logo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MPSV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říjemci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emusí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oužív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Loga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ení třeba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uvádět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pouze v řadě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Barevná a černobílá varianta lo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6"/>
          <p:cNvGraphicFramePr/>
          <p:nvPr/>
        </p:nvGraphicFramePr>
        <p:xfrm>
          <a:off x="1692360" y="4221000"/>
          <a:ext cx="158436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4221000"/>
                    <a:ext cx="158436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4" descr=""/>
          <p:cNvPicPr/>
          <p:nvPr/>
        </p:nvPicPr>
        <p:blipFill>
          <a:blip r:embed="rId4"/>
          <a:stretch/>
        </p:blipFill>
        <p:spPr>
          <a:xfrm>
            <a:off x="1116000" y="1989000"/>
            <a:ext cx="2664000" cy="816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5"/>
          <a:stretch/>
        </p:blipFill>
        <p:spPr>
          <a:xfrm>
            <a:off x="1116000" y="3068640"/>
            <a:ext cx="2664000" cy="844560"/>
          </a:xfrm>
          <a:prstGeom prst="rect">
            <a:avLst/>
          </a:prstGeom>
          <a:ln w="0">
            <a:noFill/>
          </a:ln>
        </p:spPr>
      </p:pic>
      <p:sp>
        <p:nvSpPr>
          <p:cNvPr id="60" name="Line 8"/>
          <p:cNvSpPr/>
          <p:nvPr/>
        </p:nvSpPr>
        <p:spPr>
          <a:xfrm>
            <a:off x="1403280" y="4076640"/>
            <a:ext cx="1944720" cy="1366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 flipH="1">
            <a:off x="1547640" y="4149720"/>
            <a:ext cx="1944720" cy="129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6"/>
          <a:stretch/>
        </p:blipFill>
        <p:spPr>
          <a:xfrm>
            <a:off x="4356000" y="1989000"/>
            <a:ext cx="1328760" cy="1281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"/>
          <p:cNvPicPr/>
          <p:nvPr/>
        </p:nvPicPr>
        <p:blipFill>
          <a:blip r:embed="rId7"/>
          <a:stretch/>
        </p:blipFill>
        <p:spPr>
          <a:xfrm>
            <a:off x="6516720" y="1989000"/>
            <a:ext cx="1441440" cy="1398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"/>
          <p:cNvPicPr/>
          <p:nvPr/>
        </p:nvPicPr>
        <p:blipFill>
          <a:blip r:embed="rId8"/>
          <a:stretch/>
        </p:blipFill>
        <p:spPr>
          <a:xfrm>
            <a:off x="5292720" y="3860640"/>
            <a:ext cx="1871640" cy="1206720"/>
          </a:xfrm>
          <a:prstGeom prst="rect">
            <a:avLst/>
          </a:prstGeom>
          <a:ln w="0">
            <a:noFill/>
          </a:ln>
        </p:spPr>
      </p:pic>
      <p:sp>
        <p:nvSpPr>
          <p:cNvPr id="65" name="Line 16"/>
          <p:cNvSpPr/>
          <p:nvPr/>
        </p:nvSpPr>
        <p:spPr>
          <a:xfrm flipH="1">
            <a:off x="4932360" y="3573360"/>
            <a:ext cx="2735280" cy="182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7"/>
          <p:cNvSpPr/>
          <p:nvPr/>
        </p:nvSpPr>
        <p:spPr>
          <a:xfrm>
            <a:off x="5003640" y="3716280"/>
            <a:ext cx="2735280" cy="1677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Loga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 je třeba používat na dokumentech spojených s projektem a na materiálech/předmětech hrazených z projektu, nemusí být ale úplně všu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ANO</a:t>
            </a: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: smlouvy, zadávací dokumentace, letáky, brožury, propagační předměty, prezenční listiny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NE</a:t>
            </a: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: kancelářské potřeby pro běžnou administrativu, faktury a objednávky (generované strojov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Lze použít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samolepku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 nebo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razítko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Větu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 „Tento projekt je financován z ESF prostřednictvím OP LZZ a ze státního rozpočtu ČR.“ není třeba v tištěné podobě použí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Accenture</cp:lastModifiedBy>
  <dcterms:modified xsi:type="dcterms:W3CDTF">2012-04-23T08:38:51Z</dcterms:modified>
  <cp:revision>32</cp:revision>
  <dc:subject/>
  <dc:title>Snímek 1</dc:title>
</cp:coreProperties>
</file>